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487-129E-4A8A-B724-405DF55E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A4C-C001-4D0B-A78A-DFAC55E5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1F4-E29A-4BCE-A2F1-A2688EBB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6FF-D61F-4DB8-AEBF-8EBA620C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C69-F0D7-4468-A5A5-8ABEDBD3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D4C-AD12-4971-B8DE-2094AAF8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84B-2324-4E86-9F67-8C412E97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636-3D6B-48BD-A62A-552C4154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25B-1940-49B8-9A30-4C0779FA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1A9-6D75-455C-8A94-96E0AA58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1B7-284D-4BE8-8701-26AEF44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78B-2516-41E0-822C-63682C7E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7353-3803-453B-95E1-67C302CDB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8399" r="9581" b="6797"/>
          <a:stretch/>
        </p:blipFill>
        <p:spPr>
          <a:xfrm>
            <a:off x="2178000" y="457200"/>
            <a:ext cx="4765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167"/>
          <a:stretch/>
        </p:blipFill>
        <p:spPr>
          <a:xfrm>
            <a:off x="2062080" y="457200"/>
            <a:ext cx="4834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887"/>
          <a:stretch/>
        </p:blipFill>
        <p:spPr>
          <a:xfrm>
            <a:off x="1838160" y="304920"/>
            <a:ext cx="525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2:56:13Z</dcterms:created>
  <dc:creator>Patrick J. Mooney</dc:creator>
  <dc:description/>
  <dc:language>en-US</dc:language>
  <cp:lastModifiedBy>Patrick J. Mooney</cp:lastModifiedBy>
  <dcterms:modified xsi:type="dcterms:W3CDTF">2011-04-19T03:05:23Z</dcterms:modified>
  <cp:revision>2</cp:revision>
  <dc:subject/>
  <dc:title>Slide 1</dc:title>
</cp:coreProperties>
</file>